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A78-B0AB-4F62-AD6B-DC5E686A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91E-A13B-435B-9C53-AD34EA40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89886-E90A-413E-8CB5-D86748F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187DF-ABBE-4044-AE6F-F49D8984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2F68D-96B4-40C0-9204-AFE03AEC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9752-173C-46CA-A394-FCC0CBF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467B7-66F4-4717-951A-BCC3994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7A5C3-0E70-4A78-8856-C95D1748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D9155-C005-4472-9DF6-9E9BFC29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9A547-7A3C-458E-B445-2899677D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C05F0-E38F-4F0E-8D8A-7D578D61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1EC-1A78-42E1-83F2-EDD7BEB1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72E-4901-434E-B9D2-EEE3B308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6D90-BDBC-4B87-A242-076DC1FA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AA9-18A0-452A-881D-42BC8206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D5FA-ABE4-461D-85A5-C26D922A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53D1-CBB1-4EF2-B363-8C9C7F57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AEE1-F32C-438B-86DE-CDA05F0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DDAC-6314-4602-8C1C-A7DF09F4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F4CE-5FD9-432C-B5CB-052651E0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4CF-D879-4E9D-B7B4-4D02BA52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C239-A195-4A22-B332-39F83D2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2FD0-65DD-417F-942E-57DB69A3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0CAD-B142-4275-BE0E-6DCDC76A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26E1-857C-42D9-B050-6E025075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994C-82A9-465A-B1D2-52C8E03A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07FF-3F23-45E1-9D97-F8BC0BFC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6446-7ABF-4DDC-B7F2-1443E380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99C7-16DE-4834-86C9-411300E8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6497-C2B7-49D8-BC90-8EAD1596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CECA-26F6-4EEC-B804-DDC308A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EFC-AE12-4ADB-A903-F65C3998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AA2D-5A79-4896-9F76-10ED01F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EDE5-E263-47BD-A22C-5BA1826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5F686-0D6C-415E-ACC4-90F1763C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2FFE-61F6-4281-8D1B-F8BBF071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0292-3E5B-42EC-A55A-2974BA2F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5ED3-5633-476F-8553-236E0C7D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0600-26C9-43A5-B97E-56DC5343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4F12A-0949-404C-BAEB-A5BBBBE5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A7C71-D216-4A22-A1D8-9E2CBFB5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B4451-42D7-4026-AF89-705CB98D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223-2BC5-49DF-B19B-B8A87118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5E92-5DAE-4032-9ED8-92EDEB3D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806A-4CDA-44C6-BDC7-79639E80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0AB9-E393-46DF-8567-9C990A18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23C5-7165-4A52-926B-9ABFE1C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F948-BECE-43B3-8858-31A23482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603D-F70E-44A3-A5BF-91D7218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7B88-13CF-43E2-8304-C3B2DDC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95AD-0A52-439F-93DD-88BA8FB0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C173-0161-4181-B2A9-81104AF6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EF57-5494-4FF6-8562-06B11C35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E73-E1BA-4E3D-A232-3B49C972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18435-FA45-4D23-970A-0AC235D4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385C1-5B89-420B-95BA-023A0F93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854BA-00D6-4862-B64A-E61EE2C3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17ECA-80DA-410F-A0A0-28DE67C0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F7B2-6034-4070-A8AD-7F4306E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956AD-8D44-4904-BFB1-D169FDA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8054-45E3-48B8-9BF3-FAA10C29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7D39-0556-407A-B198-4166903F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38B8A-47DB-4D06-917D-EE3281E5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80A4E-0702-499C-816A-6B871CBB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EEA-898D-4F22-B565-7B3376C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E348-AC44-483A-9EE5-8FBE2A88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2FC97-C144-49FE-BC74-93513EFF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D1F9-2C7A-4DF8-87C3-FD72CD2D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5886D-B99B-4582-856B-C749017D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5D304-CD69-4225-A36D-50523086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C8F21-BD8F-44BC-B21A-163F8E9A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8F04-AC38-44B7-8BE2-F7A3170C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47B16-769D-4778-B3DA-46EE8D6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06CDB-A344-4FD9-BD20-8BF88CF5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D254-57F7-44B4-A4B0-878A44D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280-7C67-486E-B8E1-55349FC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DBFBC-0EDC-482F-B61E-B19BDECF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4AC18-BB3B-4584-816D-3153CEB0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2F2F-D1B1-4F11-AE98-9F3A2EA1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1BEBB-7446-4EEC-B761-C5BDCE8F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285E7-6D34-4C72-B7E7-5219E285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056D-04CD-48C1-BFDA-8EFDC7F3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A94E-4055-4506-BF93-B92B2873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7C33A-10B1-4591-B1FA-D341C99B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34297-C21F-4CFC-870E-138A5BCD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C1A67-1846-4CC8-BC78-B03F576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525-1325-431B-8F55-2CA2ABD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9A63-B86D-47CB-BD00-F34263DF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AD45F-A7AD-4DDC-AD49-FFABEF5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AF449-7E49-4FDC-A38F-B8BE643E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7EA1A-0A29-4194-BDE0-BAF16561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AF8A-E753-48C8-8B30-C5ADCC5E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336F-BA88-41C6-B01D-AE88DA27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DE552-AA4D-44D4-9B9E-B8B6E16B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F3619-D215-4237-A407-3023445D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79185-D26D-40DD-A306-06C324AA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5A811-56CE-42EE-AA1F-AFE15DEE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D6D-59E3-4BB4-A886-C135ACF6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02BD4-36AE-4241-9E4D-C594FF16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58AE7-4B92-4DD8-872A-D7966104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1E555-D6D7-4ECB-BF6A-433DA41F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E29F6-DFD2-4814-B8CA-824A605D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08792-5BC7-46C7-B540-495EB311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0FAB1-22F8-4B0F-B368-A3A5F10A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60ACD-E550-4714-81A5-FFC5A005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2D08D-2E31-4C7F-A2C9-1693FE9B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D1080-0229-4FC3-BFC8-246FF092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7CE46-05D8-49B2-BD41-5A13837E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7D01-4466-491E-A4AA-336E104B7CC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04B5-AFD0-4ECD-9365-DAAC3BEE79F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4346-71A6-4170-9094-345DE81EF2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04B0-A48E-44DE-859A-AB14115E311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1483-9DB7-4A23-884E-2F99BFF4361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A37-595F-4AFD-8A9E-AB707A14937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F2A5-3B84-4A83-809B-AFE75B2AC3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2520-31B7-43FF-A8A8-9A40D70328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E61E-D492-479C-A3E3-87F75289A4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5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8699760" cy="16891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Franklin Gothic Book"/>
              </a:rPr>
              <a:t>Propósito # 46: </a:t>
            </a: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¿Adónde fuiste en las vacaciones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Actividad Inicial: 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For homework, you had to research a resort that you would like to visit one day. You had to also pretend that you already went there. Working with a partner, exchange information about what you did at this place or resort. Write down three (3) things that your partner did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242200" cy="1305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1"/>
          <p:cNvSpPr/>
          <p:nvPr/>
        </p:nvSpPr>
        <p:spPr>
          <a:xfrm>
            <a:off x="380880" y="106668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Escriban en el pretér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Él 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 al merca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Yo 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 al supermerca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Nosotros 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a la play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Nuestros amigos 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a una estación de esquí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Tú  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 en carro, ¿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¿Adonde 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3600" spc="-1" strike="noStrike">
                <a:solidFill>
                  <a:srgbClr val="000000"/>
                </a:solidFill>
                <a:latin typeface="Times New Roman"/>
              </a:rPr>
              <a:t> usted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98440" y="-36360"/>
            <a:ext cx="8242200" cy="14871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http://www.forodefotos.com/attachments/estados-unidos-usa/25432d1318975765-fotos-de-nueva-york-clima-nueva-york.jpg"/>
          <p:cNvPicPr/>
          <p:nvPr/>
        </p:nvPicPr>
        <p:blipFill>
          <a:blip r:embed="rId2"/>
          <a:stretch/>
        </p:blipFill>
        <p:spPr>
          <a:xfrm>
            <a:off x="152280" y="1143000"/>
            <a:ext cx="3681360" cy="2514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http://www.rionegro.com.ar/diario/funciones/binario/imagen.aspx?idart=525760&amp;idcat=9521&amp;idcon=1595352&amp;resolucion=1&amp;tipo=2"/>
          <p:cNvPicPr/>
          <p:nvPr/>
        </p:nvPicPr>
        <p:blipFill>
          <a:blip r:embed="rId3"/>
          <a:stretch/>
        </p:blipFill>
        <p:spPr>
          <a:xfrm>
            <a:off x="4888080" y="1219320"/>
            <a:ext cx="3813120" cy="2438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http://www.lomejordelvinoderioja.com/vinoderioja/datos/bodega/foto_articulo_179.jpg"/>
          <p:cNvPicPr/>
          <p:nvPr/>
        </p:nvPicPr>
        <p:blipFill>
          <a:blip r:embed="rId4"/>
          <a:stretch/>
        </p:blipFill>
        <p:spPr>
          <a:xfrm>
            <a:off x="2590920" y="3962520"/>
            <a:ext cx="3733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242200" cy="1305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www.elespectador.com/files/images/nov2008/86e77280b1b4c7f649c65a7cae0d24f1.jpg"/>
          <p:cNvPicPr/>
          <p:nvPr/>
        </p:nvPicPr>
        <p:blipFill>
          <a:blip r:embed="rId2"/>
          <a:stretch/>
        </p:blipFill>
        <p:spPr>
          <a:xfrm>
            <a:off x="228600" y="1295280"/>
            <a:ext cx="4114800" cy="2740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1.bp.blogspot.com/_SKp2_4Hap48/TQjLMQTBckI/AAAAAAAA1IM/VX6rQGCmzHU/s1600/friocold_weather.jpg"/>
          <p:cNvPicPr/>
          <p:nvPr/>
        </p:nvPicPr>
        <p:blipFill>
          <a:blip r:embed="rId3"/>
          <a:stretch/>
        </p:blipFill>
        <p:spPr>
          <a:xfrm>
            <a:off x="4724280" y="1295280"/>
            <a:ext cx="3962520" cy="2667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http://img01.lavanguardia.com/2011/01/27/Imagen-de-una-de-las-calles-de_54107013238_600_396.jpg"/>
          <p:cNvPicPr/>
          <p:nvPr/>
        </p:nvPicPr>
        <p:blipFill>
          <a:blip r:embed="rId4"/>
          <a:stretch/>
        </p:blipFill>
        <p:spPr>
          <a:xfrm>
            <a:off x="2895480" y="4191120"/>
            <a:ext cx="3429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4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Complete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En el verano cuando hace calor, nos gusta ir a la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Es necesario usar una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cuando uno toma el so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Me gusta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en el mar y en la piscin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Ellos jugaron al tenis en la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Muchas veces cuando hace mal tiempo ha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en el ciel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4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Complete using the preterite ten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Yo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el fin de semana en la playa (nadar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Algunos de mis amigos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y otro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en el agua. (nadar, esquiar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Todos nosotros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el sol. (tomar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¿Tú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tu traje de baño de nuevo? (llevar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Ustedes le 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	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a Antonio, ¿no? (hablar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rite with a direct object pronou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Yo </a:t>
            </a:r>
            <a:r>
              <a:rPr b="0" lang="es-DO" sz="3200" spc="-1" strike="noStrike">
                <a:solidFill>
                  <a:srgbClr val="ff0000"/>
                </a:solidFill>
                <a:latin typeface="Franklin Gothic Book"/>
              </a:rPr>
              <a:t>compré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s-DO" sz="3200" spc="-1" strike="noStrike">
                <a:solidFill>
                  <a:srgbClr val="0070c0"/>
                </a:solidFill>
                <a:latin typeface="Franklin Gothic Book"/>
              </a:rPr>
              <a:t>la crema protectora 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en la farmaci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Él </a:t>
            </a:r>
            <a:r>
              <a:rPr b="0" lang="es-DO" sz="3200" spc="-1" strike="noStrike">
                <a:solidFill>
                  <a:srgbClr val="ff0000"/>
                </a:solidFill>
                <a:latin typeface="Franklin Gothic Book"/>
              </a:rPr>
              <a:t>dejó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s-DO" sz="3200" spc="-1" strike="noStrike">
                <a:solidFill>
                  <a:srgbClr val="0070c0"/>
                </a:solidFill>
                <a:latin typeface="Franklin Gothic Book"/>
              </a:rPr>
              <a:t>las toallas 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en cas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Aquí </a:t>
            </a:r>
            <a:r>
              <a:rPr b="0" lang="es-DO" sz="3200" spc="-1" strike="noStrike">
                <a:solidFill>
                  <a:srgbClr val="ff0000"/>
                </a:solidFill>
                <a:latin typeface="Franklin Gothic Book"/>
              </a:rPr>
              <a:t>tienes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s-DO" sz="3200" spc="-1" strike="noStrike">
                <a:solidFill>
                  <a:srgbClr val="0070c0"/>
                </a:solidFill>
                <a:latin typeface="Franklin Gothic Book"/>
              </a:rPr>
              <a:t>los boletos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¿</a:t>
            </a:r>
            <a:r>
              <a:rPr b="0" lang="es-DO" sz="3200" spc="-1" strike="noStrike">
                <a:solidFill>
                  <a:srgbClr val="ff0000"/>
                </a:solidFill>
                <a:latin typeface="Franklin Gothic Book"/>
              </a:rPr>
              <a:t>Conoces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 a </a:t>
            </a:r>
            <a:r>
              <a:rPr b="0" lang="es-DO" sz="3200" spc="-1" strike="noStrike">
                <a:solidFill>
                  <a:srgbClr val="0070c0"/>
                </a:solidFill>
                <a:latin typeface="Franklin Gothic Book"/>
              </a:rPr>
              <a:t>Juan</a:t>
            </a:r>
            <a:r>
              <a:rPr b="0" lang="es-DO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orkbook P. 68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Leandy</cp:lastModifiedBy>
  <dcterms:modified xsi:type="dcterms:W3CDTF">2012-05-15T17:09:18Z</dcterms:modified>
  <cp:revision>93</cp:revision>
  <dc:subject/>
  <dc:title>Me llamo __________            Clase 7IM La fecha es el 14 de septiembre del 2011</dc:title>
</cp:coreProperties>
</file>